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.png" ContentType="image/pn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</p:sldMasterIdLst>
  <p:notesMasterIdLst>
    <p:notesMasterId r:id="rId37"/>
  </p:notes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  <p:sldId id="285" r:id="rId67"/>
    <p:sldId id="286" r:id="rId68"/>
    <p:sldId id="287" r:id="rId69"/>
    <p:sldId id="288" r:id="rId70"/>
    <p:sldId id="289" r:id="rId71"/>
    <p:sldId id="290" r:id="rId72"/>
    <p:sldId id="291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notesMaster" Target="notesMasters/notesMaster1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slide" Target="slides/slide30.xml"/><Relationship Id="rId68" Type="http://schemas.openxmlformats.org/officeDocument/2006/relationships/slide" Target="slides/slide31.xml"/><Relationship Id="rId69" Type="http://schemas.openxmlformats.org/officeDocument/2006/relationships/slide" Target="slides/slide32.xml"/><Relationship Id="rId70" Type="http://schemas.openxmlformats.org/officeDocument/2006/relationships/slide" Target="slides/slide33.xml"/><Relationship Id="rId71" Type="http://schemas.openxmlformats.org/officeDocument/2006/relationships/slide" Target="slides/slide34.xml"/><Relationship Id="rId72" Type="http://schemas.openxmlformats.org/officeDocument/2006/relationships/slide" Target="slides/slide35.xml"/><Relationship Id="rId73" Type="http://schemas.openxmlformats.org/officeDocument/2006/relationships/slide" Target="slides/slide36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08CA-6644-4C2D-99D1-F245826A0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FF8A-CA5D-400C-AF2A-E8A84760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4229-8828-4415-9804-4B15AD49C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D062-D87A-45F6-9FE9-F4DAD5C6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7F36-C055-4B96-BACF-C095ADBF3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3B3D-B093-4059-AF20-F1A296CE0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4560-E2ED-479A-B137-EB9126204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F288-DA20-4D76-91AB-EA6E3AF13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7AEF-AAEE-4B89-8A7F-80B5BF297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09D1-A612-46F3-A13B-15CDCBF1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93E8-0EDD-45DE-BD4D-C7351223E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3590-1350-4374-B87D-5EBF5B909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4F72-CED3-4607-95C7-A4143CF5F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5FEF-1210-4D6C-8C0A-EF4822562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BD6E-D391-40D8-9A98-56999C953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1470-C3F3-4AB7-8732-CBC8B4731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5CF5-FD3D-43A9-A4E3-67079479A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16C0-D602-427E-B0D3-A0B4239A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591-12F0-435E-96D5-E083F1FA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287-4E61-45A1-B1F4-3865AB2C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87AC9-900D-4CE7-9DFC-B3539760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88744-0259-4B3D-805D-0616AFEF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680DE-DFA2-4A53-A60D-36FF590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9D55B-329C-42B5-9E7C-0B2A625F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9ACF1-589D-42D1-8D2A-A280094E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AFA91-5651-4B4B-9524-ED7DE0D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70EDC-2392-4C51-9F7C-3BB07635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3B2E2-BB45-47BA-8861-8A370ED1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FAEC5-6B6B-4317-8B3C-7FE7BE9A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0968B-48CF-408A-909A-6BB6228C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124-F5DD-4213-95A8-7DBA276F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6087C-644D-43AE-8A4F-6FFC9240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CF4A0-9567-4922-8092-14124122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F26C0-88CA-4880-A90A-0006B1D6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3E17F-538A-46A5-8006-C83F33B6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3721D-D8DB-43BC-8EAE-75BF815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5319A-FB65-46B5-8D64-5B6DE34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F2CAF-956B-4131-90A5-E9999CAC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A5CC1-ABAA-412F-9751-1AF4433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9E0E9-7462-4BCF-8106-2A3BB834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9DCB3-3C38-4ACD-A8FE-AD8B3449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FE3-552F-4ACA-84FD-748966FB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3F795-37A1-4846-B80F-4431786A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A680F-60F9-47B2-AB08-DF6C38C7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AD8D1-9F5E-40FD-AC12-5A0F3931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EB001-F0E0-4F1E-9F80-8AB36D07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E8122-6281-4A32-B80B-2252E007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B7CE2-DC94-4DA2-A54A-B60C492B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1DC98-E2AC-4C7C-BB5C-99AE108E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1A16E-90EA-4A07-91C1-4EAE3DD7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43B7E-E212-4C00-887C-2A5FDD73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E7BE8-FF1B-4F9C-BC6E-8041D6CA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C051-D274-473A-8C68-2BF978A8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DB8DA-9980-443A-932C-AD99A4EE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3945D-A86D-4D9D-B0D9-53A61B60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83B83-884B-4572-99B6-25B61822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A9221-2953-497D-8931-15024922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0AEE7-8B60-4922-BB76-8BC4E669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1BCE0-E011-4AC4-8961-DB4FACA4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EF5D9-B509-46CE-84E3-F509DBFB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60FE9-2B03-4457-8929-9C15D977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C598F-6C6C-4F1B-ADCC-75C604F1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0CC9D-FCA7-4E7A-9454-C70BC68E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AF96-F0A5-47E9-BDDF-B9C07876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45FB4-9F01-4264-822E-158C6094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959D0-D882-43C0-9063-5F89353D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E625A-2E46-47C3-8ED1-244DCD8B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61B97-FBD2-4189-BF86-FA966A8F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0EF99-9793-4E5A-BBAC-2C0069F6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2AED83-40F8-4294-AC88-6796FA88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8F67C-EA12-4B50-A25A-38840C0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CE2DF-929E-4D4A-B5E1-A29FBDC7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3A404-AB8A-4718-AC70-3BA50BC4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D0781-F559-4C91-A591-A8335050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4974-26F2-47A8-9F97-22495617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8E9DC-1081-4F4B-AF60-621E4D5A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F6A3E-E6BE-453E-9F32-3C51A413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12BFD-CAC6-454C-A2BE-7EAFA94E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422CC-6F7A-4B41-B0CD-209CE6C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CF501-128B-4B72-ADE4-83006102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0050B-0970-4CA0-9613-E2F88AFB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24D0A-2517-4EA7-9677-CD0EA46D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7E5E9-2572-4620-80D5-4A25B399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6941D-5890-4409-9A89-80BDFF2D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BBA44-30C8-494F-A4BC-A9D81B6C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7DF1-50FE-495D-A772-0E2E6E85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24C75-5B65-47B0-A0D0-014B0805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E4547-36B3-4E3A-908A-5FC97172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7AEC0-B2C9-40A0-A077-DA071A37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48688-87CB-4F81-87A1-3819DE32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8E754-1643-4C69-8419-A46787E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D065D-BA22-488B-A043-98DD347C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33DCA-E866-4B0B-8DFE-F1C70FD7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BBC73-9F15-4FC1-9590-8E7C1A9D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B3909-8DD5-4988-A4FA-B9863D3B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1560C-D3C7-43DD-9B11-400B96BE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1668-0251-4829-AB6F-9A51620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55232-497D-4698-B94D-8F3890CE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F496F-0EBA-4445-99C7-442AE369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676AD-6955-44C7-86F4-C5F0F1F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47A69-86FC-416A-AA1E-EAAEC825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BB29E-6681-4F2E-AD93-6E6B1A41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B69D5-E19C-4FCB-B048-64F26001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A9CF2-DF72-4567-8968-CB7F96C2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D7ED6E-B64D-4429-926B-CB637C7F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F59789-0ED7-4E1B-8EA5-840C1F58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24919-E887-4599-BEA3-58B29D5F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A002-46EB-4955-A10D-705B81E1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1C984-5FD5-4C3E-AF42-F98CEBBC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66C85-A0BA-47B3-9F7A-DC073AE3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60D53-620D-4CD2-9BC5-42E9F8A2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4DAAA-CBF7-409E-A0E3-DA7FEB57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1F59D-6FB3-43C5-8863-6D64D389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26B1B-3FF7-4C3E-85B4-692B2D1F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630B20-575C-4D66-8096-82D19C7F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41BA7-879A-458B-9B3E-0A8D90A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C99D5-60B5-4577-B105-9077EABD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518F7-36F9-4873-87AB-0FE757F1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5B5A-3295-4559-898F-8C32901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4B461-0DDB-44F8-886B-781F2B59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7967F-3302-4C94-B40F-1634A499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330F7-857B-476C-9437-1B2B457B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CA527-52F2-423C-9E9E-533622F8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0769E-E112-4938-AF04-6A08FF5D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A4515E-2CDF-4AB2-B04F-4AC63747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F20DF-AE96-49BC-8093-FC52300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3FEDC-C6F9-4266-8AE4-92917786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C9346-5BD1-4110-A452-61A0C772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8012E-0FC8-4297-8470-2196F658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678-691F-45D1-B818-09C05707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DBC9-9D55-4134-AECA-530B1B98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B8D6D1-1088-43EC-8ED1-A97BDCF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9ACFE-395D-4140-AD99-6A2F3F5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A3D0B-E04E-4BC8-9FC9-3F6AD021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3249A-62D1-4004-B259-910949F3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82C52-F856-466B-B951-C3764B7D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0FB912-3AD6-4DD5-BAF7-F073896A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9CD94-2315-4AA2-9CCD-36039BD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95EF07-1820-41AB-9E78-F814A6AA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419C7-80B8-4AAD-9862-7C55764F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3C1379-6740-403E-A254-F429D453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4C6F-8316-4ED6-BA26-6DF87307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E1348-F83D-4BC4-84C8-688E246F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736AD-0BCF-494D-B527-17687C43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2FA6B-6E5B-4F38-BBEA-05C5AECF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B96236-CFAA-4675-B4E6-D2F21033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7CB9A-7129-44C9-B14A-B910C34A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949D4-B3BD-4660-906A-36C4A5D5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162CB-C81D-4A54-8F87-AD0D999E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F8E7-11FF-4A21-A359-F762B0A4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3124-4E6D-4753-B5F4-1BE01AE9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3A78-2F30-404F-944C-93F7C2DE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D5BC-C35E-4051-9B03-1856A853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84FD-2ADF-4003-AB1A-3053C61F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7C7D-12E1-4B30-A5BE-96C8B793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174F-C0F0-4D94-BC02-C58A2953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61F2-DCC6-49AF-99B5-C6CFCC0D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962-3F42-438C-AF85-17F499EF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93D6C-0806-4912-8D62-2463A6DC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12587-BAEA-468E-B11A-94F0323E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6615-63CB-4A3D-BCB9-DB1F3792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1BFE7-9430-4D26-B414-EFC95174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A8D2-B44D-4C5D-A959-3CC5E4EC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759F-2F3D-46A9-8E60-9C869915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F6F61-B032-4012-A515-9E618DA9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69CD-7FCB-425F-939C-08238674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C9A2-9342-4037-9FEB-7C9A846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B385-EFDD-4A43-BDAA-5ED4E340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BDA-48E0-4CF3-9C89-8DF2D50F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5B26-A497-4DDC-AA29-B157AB07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0A7C-56CF-4163-8C02-8BF97A39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5726-B9BF-4AD6-9609-AE15BE7C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CEA1-6680-4957-B831-30C5D3FB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04028-0897-495F-BBEF-1176C0C7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F0AE-0126-448F-B336-5BF1F9C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1C1CB-BAF4-417F-B2BF-1FB6F8DD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213C-6968-402A-9804-7EA232BB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AE1B-2B36-4949-AA0B-6B5F2E45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00D3C-6D5E-45F5-94E9-65D8E7FC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300E-723C-4B67-91F9-3A898CFE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A9420-8094-4B4B-B3C5-379DA59A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31999-8332-4B61-A0E8-A2552638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E1116-08A7-411F-AB80-3F38C694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9C18-261A-4A81-9981-B34FBCEF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4670-3506-44BC-BB95-C8EB3134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4C9A4-2527-4C26-A095-DA51DBD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58AB0-1398-42F1-9B7A-863CB5F7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B7CAA-03EE-45BC-869B-5336FA0C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E179E-EDD2-412D-8232-021162AF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FEB8-132A-482D-A829-899B05A8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7B6-29A6-47DE-8901-454EC418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CCB1-6B06-4738-B064-15F89C07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9D3DD-164F-4CE3-966E-F635BF72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AB877-0C67-4AE2-86A0-0D35F7DD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8F215-10D6-4B46-BD9C-47755F14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40A0A-9EA5-48ED-A5B0-0FF702BC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33E6-401D-4A2B-BE90-7D556509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3F3EA-0641-4270-A5C3-84760847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739F7-D205-450F-8F22-4F58FEAB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DB709-C8D2-436E-9289-69514F4A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CBBAB-69E7-434E-BABE-17692F3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317-B449-4873-8242-441E520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8111-70F8-4C56-9017-FE592102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A9DF7-0516-41D5-8D64-60561B1E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B4CAB-6DDB-4B59-8BD5-7ACC9CAD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E22DB-B16E-4DBE-88F5-1950548A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80FA4-9DA4-4746-8CFB-6EA25CB8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60266-BA5B-49AB-AAE2-A8CBD194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1B6FE-BF17-46FC-939F-63E0674C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C9F6C-6607-4507-B61B-358C8B0F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6133E-2052-4B14-9F5C-E5BBCFFD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BCC6F-430B-41C8-8DDC-188B4339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125-D93F-431D-B2A7-8B14ADD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2A980-6882-4F3A-8C8D-0B41153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C3877-D558-40D0-8D54-6B1E6BD3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A0BFF-4D51-4484-B244-15B73B3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5129E-9F2F-4D65-B8F9-FE65CD65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E1772-CF89-43B7-88EF-00E8F8D3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3621A-1E3D-49BF-86E7-6659C6FD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B53E6-3EB1-44E4-BE7B-CF2F402C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33FFB-87B6-43A4-8466-65464B3F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D9AB2-3141-4F84-A24F-14DC18F1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18BEA-7E9C-4CDF-8285-6086FDC1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CDF-70D7-410D-BF2B-60EF092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AF733-F7BD-403D-9A14-DA2A238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D97C5-53A6-46A8-9AB0-C83F7A25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0591C-2430-4036-8BE5-C654E51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0B284-1597-4F57-80D2-E6B285F2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B4712-5482-47AD-96F8-26768C70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2FCD3-6BC3-4177-AECD-B6ADB1C9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30BB7-007D-44AF-A990-B966D8F3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C728D-881F-46FA-8B45-AF6AE0DD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251A7-E805-47B8-9FE9-DC729871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1E0D6-9011-4FFA-941D-7DBCC30B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D057-7677-44E2-9E1D-7A9524980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D32E-2E4A-4509-B137-A8DF04916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D3D2-D99D-449D-81EE-54796B599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8F9B-11C0-4847-A8AC-A79A8D28F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8397-D4C1-4D0F-8269-222A1A2B6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E357-CCF4-4F60-B57F-38855EAB1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504B-8D82-483B-9F02-8C6F645A1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69F7-8E5B-4471-8E7E-9B8DB5271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3691-9F10-4C7B-8546-E1C49AA4A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A7E-A6F5-4E72-AB38-A548F5EF0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703A-C8DF-457D-A56D-9A3BCCB86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F333-4793-4F1D-8817-FC2AE2EA2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AA7E-4C4B-41FB-ABF2-C704815B0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CA73-E406-4BAF-BDD5-0DF91B966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54F-DDAB-4575-ACA5-3DE562FD2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0D85-28BE-44D3-AAC1-4D13E0C94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E9BD-C939-4A47-A4A6-60199A881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C626-27F7-4F2E-A422-1FBD08F0E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I" TargetMode="External"/><Relationship Id="rId3" Type="http://schemas.openxmlformats.org/officeDocument/2006/relationships/hyperlink" Target="http://en.wikipedia.org/wiki/1_(number)" TargetMode="External"/><Relationship Id="rId4" Type="http://schemas.openxmlformats.org/officeDocument/2006/relationships/hyperlink" Target="http://en.wikipedia.org/wiki/V" TargetMode="External"/><Relationship Id="rId5" Type="http://schemas.openxmlformats.org/officeDocument/2006/relationships/hyperlink" Target="http://en.wikipedia.org/wiki/5_(number)" TargetMode="External"/><Relationship Id="rId6" Type="http://schemas.openxmlformats.org/officeDocument/2006/relationships/hyperlink" Target="http://en.wikipedia.org/wiki/X" TargetMode="External"/><Relationship Id="rId7" Type="http://schemas.openxmlformats.org/officeDocument/2006/relationships/hyperlink" Target="http://en.wikipedia.org/wiki/10_(number)" TargetMode="External"/><Relationship Id="rId8" Type="http://schemas.openxmlformats.org/officeDocument/2006/relationships/hyperlink" Target="http://en.wikipedia.org/wiki/L" TargetMode="External"/><Relationship Id="rId9" Type="http://schemas.openxmlformats.org/officeDocument/2006/relationships/hyperlink" Target="http://en.wikipedia.org/wiki/50_(number)" TargetMode="External"/><Relationship Id="rId10" Type="http://schemas.openxmlformats.org/officeDocument/2006/relationships/hyperlink" Target="http://en.wikipedia.org/wiki/C" TargetMode="External"/><Relationship Id="rId11" Type="http://schemas.openxmlformats.org/officeDocument/2006/relationships/hyperlink" Target="http://en.wikipedia.org/wiki/100_(number)" TargetMode="External"/><Relationship Id="rId12" Type="http://schemas.openxmlformats.org/officeDocument/2006/relationships/hyperlink" Target="http://en.wikipedia.org/wiki/D" TargetMode="External"/><Relationship Id="rId13" Type="http://schemas.openxmlformats.org/officeDocument/2006/relationships/hyperlink" Target="http://en.wikipedia.org/wiki/500_(number)" TargetMode="Externa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5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2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5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49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7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Text Box 6"/>
          <p:cNvSpPr/>
          <p:nvPr/>
        </p:nvSpPr>
        <p:spPr>
          <a:xfrm>
            <a:off x="0" y="0"/>
            <a:ext cx="5334120" cy="86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, 3-26 &amp; 2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Ancient Greece and Rome Test on 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7"/>
          <p:cNvSpPr/>
          <p:nvPr/>
        </p:nvSpPr>
        <p:spPr>
          <a:xfrm>
            <a:off x="0" y="1295280"/>
            <a:ext cx="5181480" cy="202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:  Write the Roman Num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23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172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78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76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Picture 26" descr="school1"/>
          <p:cNvPicPr/>
          <p:nvPr/>
        </p:nvPicPr>
        <p:blipFill>
          <a:blip r:embed="rId1"/>
          <a:stretch/>
        </p:blipFill>
        <p:spPr>
          <a:xfrm>
            <a:off x="5791320" y="304920"/>
            <a:ext cx="228600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6" name=""/>
          <p:cNvGraphicFramePr/>
          <p:nvPr/>
        </p:nvGraphicFramePr>
        <p:xfrm>
          <a:off x="228600" y="3733920"/>
          <a:ext cx="4191120" cy="2930400"/>
        </p:xfrm>
        <a:graphic>
          <a:graphicData uri="http://schemas.openxmlformats.org/drawingml/2006/table">
            <a:tbl>
              <a:tblPr/>
              <a:tblGrid>
                <a:gridCol w="1009800"/>
                <a:gridCol w="318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f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q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t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fift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quagin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one hund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(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five hund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ngen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(one thousand)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7" name="Text Box 68"/>
          <p:cNvSpPr/>
          <p:nvPr/>
        </p:nvSpPr>
        <p:spPr>
          <a:xfrm>
            <a:off x="5181480" y="3465360"/>
            <a:ext cx="3276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maller numbers follow larger numbers, the numbers are added. If a smaller number precedes a larger number, the smaller number is subtracted from the larger. For 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 = 5+3 =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X = 10-1 =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L = 50-10 = 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C = 100-10 = 9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MLXXXIV = 1000+(1000-100)+50+30+(5-1) = 198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6"/>
          <p:cNvSpPr/>
          <p:nvPr/>
        </p:nvSpPr>
        <p:spPr>
          <a:xfrm>
            <a:off x="76212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X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Box 7"/>
          <p:cNvSpPr/>
          <p:nvPr/>
        </p:nvSpPr>
        <p:spPr>
          <a:xfrm>
            <a:off x="838080" y="1905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XX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Box 8"/>
          <p:cNvSpPr/>
          <p:nvPr/>
        </p:nvSpPr>
        <p:spPr>
          <a:xfrm>
            <a:off x="68580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XX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9"/>
          <p:cNvSpPr/>
          <p:nvPr/>
        </p:nvSpPr>
        <p:spPr>
          <a:xfrm>
            <a:off x="914400" y="266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CCCLXX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Content Placeholder 4" descr="agora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540" name="TextBox 4"/>
          <p:cNvSpPr/>
          <p:nvPr/>
        </p:nvSpPr>
        <p:spPr>
          <a:xfrm>
            <a:off x="7391520" y="6477120"/>
            <a:ext cx="1752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Lauren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; a king or qu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Content Placeholder 4" descr="monarchy.jpg"/>
          <p:cNvPicPr/>
          <p:nvPr/>
        </p:nvPicPr>
        <p:blipFill>
          <a:blip r:embed="rId1"/>
          <a:stretch/>
        </p:blipFill>
        <p:spPr>
          <a:xfrm>
            <a:off x="1981080" y="2286000"/>
            <a:ext cx="51469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9144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along the coas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6" name="Picture 5" descr="C:\Documents and Settings\ISLPT171\Local Settings\Temporary Internet Files\Content.IE5\97RCOJ0A\MP900432706[1].jpg"/>
          <p:cNvPicPr/>
          <p:nvPr/>
        </p:nvPicPr>
        <p:blipFill>
          <a:blip r:embed="rId1"/>
          <a:stretch/>
        </p:blipFill>
        <p:spPr>
          <a:xfrm>
            <a:off x="0" y="2054160"/>
            <a:ext cx="9144000" cy="4803840"/>
          </a:xfrm>
          <a:prstGeom prst="rect">
            <a:avLst/>
          </a:prstGeom>
          <a:ln w="0">
            <a:noFill/>
          </a:ln>
        </p:spPr>
      </p:pic>
      <p:sp>
        <p:nvSpPr>
          <p:cNvPr id="1547" name="TextBox 4"/>
          <p:cNvSpPr/>
          <p:nvPr/>
        </p:nvSpPr>
        <p:spPr>
          <a:xfrm>
            <a:off x="22860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Hallie 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Box 5"/>
          <p:cNvSpPr/>
          <p:nvPr/>
        </p:nvSpPr>
        <p:spPr>
          <a:xfrm>
            <a:off x="2743200" y="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extBox 2"/>
          <p:cNvSpPr/>
          <p:nvPr/>
        </p:nvSpPr>
        <p:spPr>
          <a:xfrm>
            <a:off x="1447920" y="1676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1" name="Picture 2" descr="http://cache.virtualtourist.com/6/3328203-aerial_of_Vouliagmeni_peninsula_Vouliagmeni.jpg"/>
          <p:cNvPicPr/>
          <p:nvPr/>
        </p:nvPicPr>
        <p:blipFill>
          <a:blip r:embed="rId1"/>
          <a:stretch/>
        </p:blipFill>
        <p:spPr>
          <a:xfrm>
            <a:off x="1523880" y="22860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552" name="TextBox 4"/>
          <p:cNvSpPr/>
          <p:nvPr/>
        </p:nvSpPr>
        <p:spPr>
          <a:xfrm>
            <a:off x="6705720" y="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. Eden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law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5" name="Picture 4" descr="greece.jpg"/>
          <p:cNvPicPr/>
          <p:nvPr/>
        </p:nvPicPr>
        <p:blipFill>
          <a:blip r:embed="rId1"/>
          <a:stretch/>
        </p:blipFill>
        <p:spPr>
          <a:xfrm>
            <a:off x="914400" y="2514600"/>
            <a:ext cx="6985080" cy="3924360"/>
          </a:xfrm>
          <a:prstGeom prst="rect">
            <a:avLst/>
          </a:prstGeom>
          <a:ln w="0">
            <a:noFill/>
          </a:ln>
        </p:spPr>
      </p:pic>
      <p:sp>
        <p:nvSpPr>
          <p:cNvPr id="1556" name="TextBox 4"/>
          <p:cNvSpPr/>
          <p:nvPr/>
        </p:nvSpPr>
        <p:spPr>
          <a:xfrm>
            <a:off x="0" y="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Emily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2"/>
          <p:cNvSpPr/>
          <p:nvPr/>
        </p:nvSpPr>
        <p:spPr>
          <a:xfrm>
            <a:off x="2362320" y="1295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9" name="Picture 4" descr="http://t0.gstatic.com/images?q=tbn:ANd9GcR4SG4-xBxMaUDbHYNM4OQCwahS4mxUTbtnyTxEHAsN9bnFwOpznw"/>
          <p:cNvPicPr/>
          <p:nvPr/>
        </p:nvPicPr>
        <p:blipFill>
          <a:blip r:embed="rId1"/>
          <a:stretch/>
        </p:blipFill>
        <p:spPr>
          <a:xfrm>
            <a:off x="990720" y="2057400"/>
            <a:ext cx="7553160" cy="4343400"/>
          </a:xfrm>
          <a:prstGeom prst="rect">
            <a:avLst/>
          </a:prstGeom>
          <a:ln w="0">
            <a:noFill/>
          </a:ln>
        </p:spPr>
      </p:pic>
      <p:sp>
        <p:nvSpPr>
          <p:cNvPr id="1560" name="TextBox 4"/>
          <p:cNvSpPr/>
          <p:nvPr/>
        </p:nvSpPr>
        <p:spPr>
          <a:xfrm>
            <a:off x="0" y="64771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David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"/>
          <p:cNvSpPr/>
          <p:nvPr/>
        </p:nvSpPr>
        <p:spPr>
          <a:xfrm>
            <a:off x="137160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3" name="Picture 2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564" name="TextBox 4"/>
          <p:cNvSpPr/>
          <p:nvPr/>
        </p:nvSpPr>
        <p:spPr>
          <a:xfrm>
            <a:off x="0" y="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 Briggs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extBox 3"/>
          <p:cNvSpPr/>
          <p:nvPr/>
        </p:nvSpPr>
        <p:spPr>
          <a:xfrm>
            <a:off x="228600" y="12952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 evidence and  make decisions in a court of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Picture 4" descr="untitled.bmp"/>
          <p:cNvPicPr/>
          <p:nvPr/>
        </p:nvPicPr>
        <p:blipFill>
          <a:blip r:embed="rId1"/>
          <a:stretch/>
        </p:blipFill>
        <p:spPr>
          <a:xfrm rot="21213600">
            <a:off x="1004760" y="2633760"/>
            <a:ext cx="73771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0" name="Picture 5" descr="http://www.southwestern.edu/departments/classics/text-restr/lawton12.jpe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571" name="TextBox 4"/>
          <p:cNvSpPr/>
          <p:nvPr/>
        </p:nvSpPr>
        <p:spPr>
          <a:xfrm>
            <a:off x="0" y="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Teagu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of Roman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be graded TODAY in 20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wrong with this im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4" name="Picture 4" descr="ruins of colony.jpg"/>
          <p:cNvPicPr/>
          <p:nvPr/>
        </p:nvPicPr>
        <p:blipFill>
          <a:blip r:embed="rId1"/>
          <a:srcRect l="0" t="0" r="0" b="7039"/>
          <a:stretch/>
        </p:blipFill>
        <p:spPr>
          <a:xfrm>
            <a:off x="0" y="1905120"/>
            <a:ext cx="9144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he Tragedy of Julius Caesar</a:t>
            </a:r>
            <a:br>
              <a:rPr sz="32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5" name="Picture 13" descr="Z:\Production\Melissa\HTML_Project\Incoming\NovelNotes_Images_for_Lason\ceasar\shutterstock_2533080.jpg"/>
          <p:cNvPicPr/>
          <p:nvPr/>
        </p:nvPicPr>
        <p:blipFill>
          <a:blip r:embed="rId1"/>
          <a:stretch/>
        </p:blipFill>
        <p:spPr>
          <a:xfrm>
            <a:off x="2057400" y="1523880"/>
            <a:ext cx="54100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48"/>
          <p:cNvSpPr/>
          <p:nvPr/>
        </p:nvSpPr>
        <p:spPr>
          <a:xfrm>
            <a:off x="76212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 setting of this play is ancient R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49"/>
          <p:cNvSpPr/>
          <p:nvPr/>
        </p:nvSpPr>
        <p:spPr>
          <a:xfrm>
            <a:off x="7621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Shakespeare creates a world full of political intrigue, magical occurrences, and military con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Picture 51" descr=""/>
          <p:cNvPicPr/>
          <p:nvPr/>
        </p:nvPicPr>
        <p:blipFill>
          <a:blip r:embed="rId1"/>
          <a:stretch/>
        </p:blipFill>
        <p:spPr>
          <a:xfrm>
            <a:off x="7238880" y="14479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52" descr="Z:\Production\Melissa\HTML Project\Incoming\NovelNotes_Images_for_Lason\ceasar\shutterstock_3276704.jpg"/>
          <p:cNvPicPr/>
          <p:nvPr/>
        </p:nvPicPr>
        <p:blipFill>
          <a:blip r:embed="rId2"/>
          <a:stretch/>
        </p:blipFill>
        <p:spPr>
          <a:xfrm>
            <a:off x="2585880" y="1827360"/>
            <a:ext cx="3894120" cy="25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3" name="Picture 23" descr="Z:\Production\Melissa\HTML_Project\Incoming\NovelNotes_Images_for_Lason\ceasar\shutterstock_2031901.jpg"/>
          <p:cNvPicPr/>
          <p:nvPr/>
        </p:nvPicPr>
        <p:blipFill>
          <a:blip r:embed="rId1"/>
          <a:stretch/>
        </p:blipFill>
        <p:spPr>
          <a:xfrm>
            <a:off x="6197760" y="1981080"/>
            <a:ext cx="2489040" cy="3810240"/>
          </a:xfrm>
          <a:prstGeom prst="rect">
            <a:avLst/>
          </a:prstGeom>
          <a:ln w="0">
            <a:noFill/>
          </a:ln>
        </p:spPr>
      </p:pic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15"/>
          <p:cNvSpPr/>
          <p:nvPr/>
        </p:nvSpPr>
        <p:spPr>
          <a:xfrm>
            <a:off x="609480" y="144792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Caesar, the most powerful man in Rome, has recently returned to the city after months of fighting abr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20" descr="Z:\Production\Melissa\HTML Project\Incoming\NovelNotes_Images_for_Lason\ceasar\5266071-2400x1400.jpg"/>
          <p:cNvPicPr/>
          <p:nvPr/>
        </p:nvPicPr>
        <p:blipFill>
          <a:blip r:embed="rId2"/>
          <a:stretch/>
        </p:blipFill>
        <p:spPr>
          <a:xfrm>
            <a:off x="4419720" y="1447920"/>
            <a:ext cx="190980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8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593" name="Text Box 40"/>
          <p:cNvSpPr/>
          <p:nvPr/>
        </p:nvSpPr>
        <p:spPr>
          <a:xfrm>
            <a:off x="457200" y="1066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Caesar was fighting Pompey, another powerful Roman, and his 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41"/>
          <p:cNvSpPr/>
          <p:nvPr/>
        </p:nvSpPr>
        <p:spPr>
          <a:xfrm>
            <a:off x="533520" y="25146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Pompey, as well as others in the Roman senate, was disturbed by Caesar’s growing amb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43" descr="Z:\Production\Melissa\HTML Project\Incoming\NovelNotes_Images_for_Lason\ceasar\5076228-1602x2400.jpg"/>
          <p:cNvPicPr/>
          <p:nvPr/>
        </p:nvPicPr>
        <p:blipFill>
          <a:blip r:embed="rId2"/>
          <a:stretch/>
        </p:blipFill>
        <p:spPr>
          <a:xfrm>
            <a:off x="4724280" y="2440080"/>
            <a:ext cx="37483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Picture 29" descr="Z:\Production\Melissa\HTML Project\Incoming\NovelNotes_Images_for_Lason\ceasar\shutterstock_1629145.jpg"/>
          <p:cNvPicPr/>
          <p:nvPr/>
        </p:nvPicPr>
        <p:blipFill>
          <a:blip r:embed="rId1"/>
          <a:stretch/>
        </p:blipFill>
        <p:spPr>
          <a:xfrm>
            <a:off x="1370160" y="3500280"/>
            <a:ext cx="3483000" cy="232092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25"/>
          <p:cNvSpPr/>
          <p:nvPr/>
        </p:nvSpPr>
        <p:spPr>
          <a:xfrm>
            <a:off x="60948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ir fears seem to be valid when Caesar refuses to enter Rome as an ordinary citizen after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 Box 28"/>
          <p:cNvSpPr/>
          <p:nvPr/>
        </p:nvSpPr>
        <p:spPr>
          <a:xfrm>
            <a:off x="609480" y="2514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Instead, he marches his army on Rome and takes over the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30" descr="Z:\Production\Melissa\HTML Project\Incoming\NovelNotes_Images_for_Lason\ceasar\shutterstock_1985514.jpg"/>
          <p:cNvPicPr/>
          <p:nvPr/>
        </p:nvPicPr>
        <p:blipFill>
          <a:blip r:embed="rId2"/>
          <a:stretch/>
        </p:blipFill>
        <p:spPr>
          <a:xfrm>
            <a:off x="4414680" y="3354480"/>
            <a:ext cx="3227400" cy="24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6" name="Picture 19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21"/>
          <p:cNvSpPr/>
          <p:nvPr/>
        </p:nvSpPr>
        <p:spPr>
          <a:xfrm>
            <a:off x="609480" y="1447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But the people don’t mind—in fact, they love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23"/>
          <p:cNvSpPr/>
          <p:nvPr/>
        </p:nvSpPr>
        <p:spPr>
          <a:xfrm>
            <a:off x="685800" y="3048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Caesar is made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dictator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or ruler—a position that was sometimes granted for a ten-year term—for the rest of his lif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Picture 24" descr="Z:\Production\Melissa\HTML Project\Incoming\NovelNotes_Images_for_Lason\ceasar\shutterstock_566270.jpg"/>
          <p:cNvPicPr/>
          <p:nvPr/>
        </p:nvPicPr>
        <p:blipFill>
          <a:blip r:embed="rId2"/>
          <a:stretch/>
        </p:blipFill>
        <p:spPr>
          <a:xfrm>
            <a:off x="4879800" y="1525680"/>
            <a:ext cx="3035520" cy="40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3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19"/>
          <p:cNvSpPr/>
          <p:nvPr/>
        </p:nvSpPr>
        <p:spPr>
          <a:xfrm>
            <a:off x="533520" y="20574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Many senators, however, resent Caesar for having so much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3" name="Picture 22" descr="Z:\Production\Melissa\HTML Project\Incoming\NovelNotes_Images_for_Lason\ceasar\shutterstock_2402541.jpg"/>
          <p:cNvPicPr/>
          <p:nvPr/>
        </p:nvPicPr>
        <p:blipFill>
          <a:blip r:embed="rId1"/>
          <a:stretch/>
        </p:blipFill>
        <p:spPr>
          <a:xfrm>
            <a:off x="4643280" y="1370160"/>
            <a:ext cx="3419640" cy="44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4" name="Picture 13" descr="Z:\Production\Melissa\HTML Project\Incoming\NovelNotes_Images_for_Lason\ceasar\2723654-1580x2400.jpg"/>
          <p:cNvPicPr/>
          <p:nvPr/>
        </p:nvPicPr>
        <p:blipFill>
          <a:blip r:embed="rId1"/>
          <a:stretch/>
        </p:blipFill>
        <p:spPr>
          <a:xfrm>
            <a:off x="2584440" y="530280"/>
            <a:ext cx="3975120" cy="2620800"/>
          </a:xfrm>
          <a:prstGeom prst="rect">
            <a:avLst/>
          </a:prstGeom>
          <a:ln w="0">
            <a:noFill/>
          </a:ln>
        </p:spPr>
      </p:pic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3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6"/>
          <p:cNvSpPr/>
          <p:nvPr/>
        </p:nvSpPr>
        <p:spPr>
          <a:xfrm>
            <a:off x="685800" y="2514600"/>
            <a:ext cx="8001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Some senators begin to conspire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  <a:ea typeface="ＭＳ Ｐゴシック"/>
              </a:rPr>
              <a:t>Brutus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Caesar’s friend who believes that he must act against Caesar for the good of Rome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Verdana"/>
                <a:ea typeface="ＭＳ Ｐゴシック"/>
              </a:rPr>
              <a:t>Casca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who hates the ordinary citizens of Rome yet is jealous because they love Caesar and not him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Verdana"/>
                <a:ea typeface="ＭＳ Ｐゴシック"/>
              </a:rPr>
              <a:t>Cassius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a greedy and jealous man who wants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o take drastic measures to keep Caesar from winning any more power—and to take away any power that Caesar previously ha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9"/>
          <p:cNvSpPr/>
          <p:nvPr/>
        </p:nvSpPr>
        <p:spPr>
          <a:xfrm>
            <a:off x="685800" y="25146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9" name="Picture 53" descr="Z:\Production\Melissa\HTML Project\Incoming\NovelNotes_Images_for_Lason\ceasar\4486351-2700x1801.jpg"/>
          <p:cNvPicPr/>
          <p:nvPr/>
        </p:nvPicPr>
        <p:blipFill>
          <a:blip r:embed="rId1"/>
          <a:stretch/>
        </p:blipFill>
        <p:spPr>
          <a:xfrm>
            <a:off x="684360" y="1297080"/>
            <a:ext cx="1928520" cy="2892240"/>
          </a:xfrm>
          <a:prstGeom prst="rect">
            <a:avLst/>
          </a:prstGeom>
          <a:ln w="0">
            <a:noFill/>
          </a:ln>
        </p:spPr>
      </p:pic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50"/>
          <p:cNvSpPr/>
          <p:nvPr/>
        </p:nvSpPr>
        <p:spPr>
          <a:xfrm>
            <a:off x="4343400" y="129528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Shakespeare uses Roman customs and superstition to create spooky conditions to mirror the dangerous plot being plan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2" name="Picture 54" descr="Z:\Production\Melissa\HTML Project\Incoming\NovelNotes_Images_for_Lason\ceasar\shutterstock_2811350.jpg"/>
          <p:cNvPicPr/>
          <p:nvPr/>
        </p:nvPicPr>
        <p:blipFill>
          <a:blip r:embed="rId2"/>
          <a:stretch/>
        </p:blipFill>
        <p:spPr>
          <a:xfrm>
            <a:off x="1442880" y="3583080"/>
            <a:ext cx="2989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3" name="Picture 26" descr="Z:\Production\Melissa\HTML Project\Incoming\NovelNotes_Images_for_Lason\ceasar\shutterstock_3153329.jpg"/>
          <p:cNvPicPr/>
          <p:nvPr/>
        </p:nvPicPr>
        <p:blipFill>
          <a:blip r:embed="rId1"/>
          <a:stretch/>
        </p:blipFill>
        <p:spPr>
          <a:xfrm>
            <a:off x="6095880" y="985680"/>
            <a:ext cx="2668680" cy="2668680"/>
          </a:xfrm>
          <a:prstGeom prst="rect">
            <a:avLst/>
          </a:prstGeom>
          <a:ln w="0">
            <a:noFill/>
          </a:ln>
        </p:spPr>
      </p:pic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2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626" name="Text Box 22"/>
          <p:cNvSpPr/>
          <p:nvPr/>
        </p:nvSpPr>
        <p:spPr>
          <a:xfrm>
            <a:off x="609480" y="14479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 Romans believed that omens could reveal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533520" y="35812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se omens could take the form of unusual weather, flights of birds, or other natural phenom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8" name="Picture 27" descr="Z:\Production\Melissa\HTML Project\Incoming\NovelNotes_Images_for_Lason\ceasar\shutterstock_2752617.jpg"/>
          <p:cNvPicPr/>
          <p:nvPr/>
        </p:nvPicPr>
        <p:blipFill>
          <a:blip r:embed="rId3"/>
          <a:stretch/>
        </p:blipFill>
        <p:spPr>
          <a:xfrm>
            <a:off x="3957480" y="2970360"/>
            <a:ext cx="3711600" cy="27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wrong with this im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07" name="Picture 4" descr="Jury Aristotle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14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Animals were seen as indicators of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15"/>
          <p:cNvSpPr/>
          <p:nvPr/>
        </p:nvSpPr>
        <p:spPr>
          <a:xfrm>
            <a:off x="457200" y="19051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 Romans often sacrificed animals to the gods, and had their entrails (guts) examined by an official called a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haruspex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. Any abnormalities or imperfections indicated the anger of a god or a particularly bad event about to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Picture 16" descr=""/>
          <p:cNvPicPr/>
          <p:nvPr/>
        </p:nvPicPr>
        <p:blipFill>
          <a:blip r:embed="rId1"/>
          <a:stretch/>
        </p:blipFill>
        <p:spPr>
          <a:xfrm>
            <a:off x="7848720" y="1295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9" descr="Z:\Production\Melissa\HTML Project\Incoming\NovelNotes_Images_for_Lason\ceasar\shutterstock_2594029.jpg"/>
          <p:cNvPicPr/>
          <p:nvPr/>
        </p:nvPicPr>
        <p:blipFill>
          <a:blip r:embed="rId2"/>
          <a:stretch/>
        </p:blipFill>
        <p:spPr>
          <a:xfrm>
            <a:off x="5108400" y="1900080"/>
            <a:ext cx="1984680" cy="29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4" name="Picture 14" descr="Z:\Production\Melissa\HTML Project\Incoming\NovelNotes_Images_for_Lason\ceasar\shutterstock_2353402.jpg"/>
          <p:cNvPicPr/>
          <p:nvPr/>
        </p:nvPicPr>
        <p:blipFill>
          <a:blip r:embed="rId1"/>
          <a:stretch/>
        </p:blipFill>
        <p:spPr>
          <a:xfrm>
            <a:off x="5483160" y="1982880"/>
            <a:ext cx="3006720" cy="2016000"/>
          </a:xfrm>
          <a:prstGeom prst="rect">
            <a:avLst/>
          </a:prstGeom>
          <a:ln w="0">
            <a:noFill/>
          </a:ln>
        </p:spPr>
      </p:pic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9"/>
          <p:cNvSpPr/>
          <p:nvPr/>
        </p:nvSpPr>
        <p:spPr>
          <a:xfrm>
            <a:off x="609480" y="1447920"/>
            <a:ext cx="3962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Unusual astronomical and meteorological occurrences were also seen as signs of future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12"/>
          <p:cNvSpPr/>
          <p:nvPr/>
        </p:nvSpPr>
        <p:spPr>
          <a:xfrm>
            <a:off x="533520" y="3733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Solar eclipses were believed to foreshadow doom, as was light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8" name="Picture 13" descr=""/>
          <p:cNvPicPr/>
          <p:nvPr/>
        </p:nvPicPr>
        <p:blipFill>
          <a:blip r:embed="rId2"/>
          <a:stretch/>
        </p:blipFill>
        <p:spPr>
          <a:xfrm>
            <a:off x="3200400" y="3124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5" descr="Z:\Production\Melissa\HTML Project\Incoming\NovelNotes_Images_for_Lason\ceasar\shutterstock_3188216.jpg"/>
          <p:cNvPicPr/>
          <p:nvPr/>
        </p:nvPicPr>
        <p:blipFill>
          <a:blip r:embed="rId3"/>
          <a:stretch/>
        </p:blipFill>
        <p:spPr>
          <a:xfrm>
            <a:off x="4570560" y="3583080"/>
            <a:ext cx="3089160" cy="20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Text Box 9"/>
          <p:cNvSpPr/>
          <p:nvPr/>
        </p:nvSpPr>
        <p:spPr>
          <a:xfrm>
            <a:off x="6094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One of the reasons the Senate was concerned by Caesar’s accumulation of power was Rome’s long history as a re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2" name="Picture 11" descr="Z:\Production\Melissa\HTML Project\Incoming\NovelNotes_Images_for_Lason\ceasar\5076228-1602x2400.jpg"/>
          <p:cNvPicPr/>
          <p:nvPr/>
        </p:nvPicPr>
        <p:blipFill>
          <a:blip r:embed="rId1"/>
          <a:stretch/>
        </p:blipFill>
        <p:spPr>
          <a:xfrm>
            <a:off x="2585880" y="2814480"/>
            <a:ext cx="41324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11"/>
          <p:cNvSpPr/>
          <p:nvPr/>
        </p:nvSpPr>
        <p:spPr>
          <a:xfrm>
            <a:off x="609480" y="14479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Around 509 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B.C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, the Romans ended a monarchy by rebelling against the last king of Rome, Tarquin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13" descr="Z:\Production\Melissa\HTML Project\Incoming\NovelNotes_Images_for_Lason\ceasar\shutterstock_3081546.jpg"/>
          <p:cNvPicPr/>
          <p:nvPr/>
        </p:nvPicPr>
        <p:blipFill>
          <a:blip r:embed="rId1"/>
          <a:stretch/>
        </p:blipFill>
        <p:spPr>
          <a:xfrm>
            <a:off x="5027760" y="1214280"/>
            <a:ext cx="326376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7"/>
          <p:cNvSpPr/>
          <p:nvPr/>
        </p:nvSpPr>
        <p:spPr>
          <a:xfrm>
            <a:off x="4267080" y="35053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They were very proud of their non-king ruled government, and were determined to preserve it—but when Caesar arrived, they changed their mi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8"/>
          <p:cNvSpPr/>
          <p:nvPr/>
        </p:nvSpPr>
        <p:spPr>
          <a:xfrm>
            <a:off x="4267080" y="1295280"/>
            <a:ext cx="449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  <a:ea typeface="ＭＳ Ｐゴシック"/>
              </a:rPr>
              <a:t>After this revolution, the Romans established their famous republic, in which all citizens were represented in the Se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Picture 9" descr=""/>
          <p:cNvPicPr/>
          <p:nvPr/>
        </p:nvPicPr>
        <p:blipFill>
          <a:blip r:embed="rId1"/>
          <a:stretch/>
        </p:blipFill>
        <p:spPr>
          <a:xfrm>
            <a:off x="8534520" y="29718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10" descr="Z:\Production\Melissa\HTML Project\Incoming\NovelNotes_Images_for_Lason\ceasar\4521980-2484x2012.jpg"/>
          <p:cNvPicPr/>
          <p:nvPr/>
        </p:nvPicPr>
        <p:blipFill>
          <a:blip r:embed="rId2"/>
          <a:stretch/>
        </p:blipFill>
        <p:spPr>
          <a:xfrm>
            <a:off x="455760" y="1370160"/>
            <a:ext cx="326376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 : Discussion Starters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ion starter topic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1. How important is loyal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your country or do your friends consider “loyalty” something to value? When can “loyalty” sometimes caus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should people do when loyalty to their country and loyalty to their friend comes into confli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there limits to what people should do in defense of the 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Discussion Start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ion starter topic 2: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2. What will a person do for the sake of political ide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sassinations of political figures are common in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political figures do you know of who have been assassin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effect did these assassinations have on the general public, a political party, or a cause at the time of the assass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Picture 3" descr="ancient.jpg"/>
          <p:cNvPicPr/>
          <p:nvPr/>
        </p:nvPicPr>
        <p:blipFill>
          <a:blip r:embed="rId1"/>
          <a:stretch/>
        </p:blipFill>
        <p:spPr>
          <a:xfrm>
            <a:off x="0" y="0"/>
            <a:ext cx="3733920" cy="33256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5" descr="trojan horse.jpg"/>
          <p:cNvPicPr/>
          <p:nvPr/>
        </p:nvPicPr>
        <p:blipFill>
          <a:blip r:embed="rId2"/>
          <a:stretch/>
        </p:blipFill>
        <p:spPr>
          <a:xfrm>
            <a:off x="0" y="3276720"/>
            <a:ext cx="3505320" cy="355284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7" descr="writing.jpg"/>
          <p:cNvPicPr/>
          <p:nvPr/>
        </p:nvPicPr>
        <p:blipFill>
          <a:blip r:embed="rId3"/>
          <a:stretch/>
        </p:blipFill>
        <p:spPr>
          <a:xfrm>
            <a:off x="3200400" y="4191120"/>
            <a:ext cx="3103560" cy="26668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6" descr="wreath.jpg"/>
          <p:cNvPicPr/>
          <p:nvPr/>
        </p:nvPicPr>
        <p:blipFill>
          <a:blip r:embed="rId4"/>
          <a:stretch/>
        </p:blipFill>
        <p:spPr>
          <a:xfrm>
            <a:off x="6183360" y="4267080"/>
            <a:ext cx="2960640" cy="259092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4" descr="greece.jpg"/>
          <p:cNvPicPr/>
          <p:nvPr/>
        </p:nvPicPr>
        <p:blipFill>
          <a:blip r:embed="rId5"/>
          <a:stretch/>
        </p:blipFill>
        <p:spPr>
          <a:xfrm>
            <a:off x="3200400" y="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-1371960" y="33526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By: Sarah Ma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7" name="Picture 5" descr="acropolis.jpg"/>
          <p:cNvPicPr/>
          <p:nvPr/>
        </p:nvPicPr>
        <p:blipFill>
          <a:blip r:embed="rId1"/>
          <a:stretch/>
        </p:blipFill>
        <p:spPr>
          <a:xfrm>
            <a:off x="1371600" y="2120760"/>
            <a:ext cx="6324480" cy="4737240"/>
          </a:xfrm>
          <a:prstGeom prst="rect">
            <a:avLst/>
          </a:prstGeom>
          <a:ln w="0">
            <a:noFill/>
          </a:ln>
        </p:spPr>
      </p:pic>
      <p:sp>
        <p:nvSpPr>
          <p:cNvPr id="1518" name="TextBox 4"/>
          <p:cNvSpPr/>
          <p:nvPr/>
        </p:nvSpPr>
        <p:spPr>
          <a:xfrm>
            <a:off x="7669080" y="6164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Sarah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Greek city-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AutoShape 6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8"/>
          <p:cNvSpPr/>
          <p:nvPr/>
        </p:nvSpPr>
        <p:spPr>
          <a:xfrm>
            <a:off x="63360" y="-898560"/>
            <a:ext cx="2476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Picture 8" descr="hvhvhv.jpg"/>
          <p:cNvPicPr/>
          <p:nvPr/>
        </p:nvPicPr>
        <p:blipFill>
          <a:blip r:embed="rId1"/>
          <a:stretch/>
        </p:blipFill>
        <p:spPr>
          <a:xfrm>
            <a:off x="1600200" y="1792440"/>
            <a:ext cx="5495760" cy="4303440"/>
          </a:xfrm>
          <a:prstGeom prst="rect">
            <a:avLst/>
          </a:prstGeom>
          <a:ln w="0">
            <a:noFill/>
          </a:ln>
        </p:spPr>
      </p:pic>
      <p:sp>
        <p:nvSpPr>
          <p:cNvPr id="1525" name="TextBox 7"/>
          <p:cNvSpPr/>
          <p:nvPr/>
        </p:nvSpPr>
        <p:spPr>
          <a:xfrm>
            <a:off x="2743200" y="6324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Kaylee C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8" name="Content Placeholder 4" descr="democracy pericles.jpg"/>
          <p:cNvPicPr/>
          <p:nvPr/>
        </p:nvPicPr>
        <p:blipFill>
          <a:blip r:embed="rId1"/>
          <a:stretch/>
        </p:blipFill>
        <p:spPr>
          <a:xfrm>
            <a:off x="1143000" y="1676520"/>
            <a:ext cx="6095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4" descr="philosopher.jpg"/>
          <p:cNvPicPr/>
          <p:nvPr/>
        </p:nvPicPr>
        <p:blipFill>
          <a:blip r:embed="rId1"/>
          <a:stretch/>
        </p:blipFill>
        <p:spPr>
          <a:xfrm>
            <a:off x="2895480" y="1752480"/>
            <a:ext cx="3524400" cy="4621320"/>
          </a:xfrm>
          <a:prstGeom prst="rect">
            <a:avLst/>
          </a:prstGeom>
          <a:ln w="0">
            <a:noFill/>
          </a:ln>
        </p:spPr>
      </p:pic>
      <p:sp>
        <p:nvSpPr>
          <p:cNvPr id="1532" name="TextBox 4"/>
          <p:cNvSpPr/>
          <p:nvPr/>
        </p:nvSpPr>
        <p:spPr>
          <a:xfrm>
            <a:off x="380880" y="60199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 Charlie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Picture 5" descr="Citizen.jpg"/>
          <p:cNvPicPr/>
          <p:nvPr/>
        </p:nvPicPr>
        <p:blipFill>
          <a:blip r:embed="rId1"/>
          <a:stretch/>
        </p:blipFill>
        <p:spPr>
          <a:xfrm>
            <a:off x="609480" y="2057400"/>
            <a:ext cx="7848720" cy="4140360"/>
          </a:xfrm>
          <a:prstGeom prst="rect">
            <a:avLst/>
          </a:prstGeom>
          <a:ln w="0">
            <a:noFill/>
          </a:ln>
        </p:spPr>
      </p:pic>
      <p:sp>
        <p:nvSpPr>
          <p:cNvPr id="1536" name="TextBox 4"/>
          <p:cNvSpPr/>
          <p:nvPr/>
        </p:nvSpPr>
        <p:spPr>
          <a:xfrm>
            <a:off x="304920" y="64008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Patrick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9:25:31Z</dcterms:created>
  <dc:creator>Selena Ramsey</dc:creator>
  <dc:description/>
  <dc:language>en-US</dc:language>
  <cp:lastModifiedBy>poweruser</cp:lastModifiedBy>
  <dcterms:modified xsi:type="dcterms:W3CDTF">2012-03-26T19:08:22Z</dcterms:modified>
  <cp:revision>37</cp:revision>
  <dc:subject/>
  <dc:title>Slide 1</dc:title>
</cp:coreProperties>
</file>